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FE5-721C-4717-8090-DBB4470E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67B-E94A-4924-9A99-84F4767F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AB9D-8703-48C8-BD8F-92B540C6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6DF-3E4A-456E-9DE8-88BC5347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1DDD-065F-44A5-B891-46167D5E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A519-EBAB-41FD-AC31-01FAB1AB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E55D-F120-4E38-816A-1010DE1D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A255-0F2A-4EF4-B532-15A8115B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7222-7DAB-4F7E-8A6E-6ABC4816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AEDA-BC82-4973-B71A-71158941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9F92-1A7E-4C03-94FB-552F1D61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BF8-EAC8-45B2-A7D2-6C667015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661E-7E8B-48CB-91BB-ACE77FBB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7637-D78D-41EB-A049-EE35FBD9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E01A-A830-48C9-882A-56A7C919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544E-6C5D-40C7-89DB-433C836B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A400-3CFF-4919-8334-20EF61D9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03D-D4A8-4CC7-A188-32A12DBE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1E8-6A38-4130-BE2A-94A36DAF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E88-9B22-426A-8DC6-72AEB83C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14A-7ED9-4B1F-B2CD-A8346B10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A9E-46B8-4D6F-9D02-D4098ACD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46FD-950A-42E2-944E-7842B318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430-CFC5-475A-B834-1918C3AE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66CE-5C90-4C98-84B1-962345663E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FBB1-8555-41C2-8EC6-8873A3494F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ni.edu/~iowawet/H2OProperties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211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213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fference between adhesion and cohe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it important to plants that water is pol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rId1"/>
          </p:cNvPr>
          <p:cNvSpPr/>
          <p:nvPr/>
        </p:nvSpPr>
        <p:spPr>
          <a:xfrm>
            <a:off x="4114800" y="3962520"/>
            <a:ext cx="838080" cy="76176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363" y="1400"/>
                </a:lnTo>
                <a:lnTo>
                  <a:pt x="1400" y="140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363" y="20200"/>
                </a:lnTo>
                <a:lnTo>
                  <a:pt x="22363" y="140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3" y="2020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3" h="21600">
                <a:moveTo>
                  <a:pt x="1188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763" h="21600">
                <a:moveTo>
                  <a:pt x="1188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763" h="21600">
                <a:moveTo>
                  <a:pt x="9305" y="8224"/>
                </a:moveTo>
                <a:lnTo>
                  <a:pt x="13170" y="8224"/>
                </a:lnTo>
                <a:lnTo>
                  <a:pt x="13170" y="15221"/>
                </a:lnTo>
                <a:lnTo>
                  <a:pt x="14458" y="15221"/>
                </a:lnTo>
                <a:lnTo>
                  <a:pt x="14458" y="16144"/>
                </a:lnTo>
                <a:lnTo>
                  <a:pt x="9305" y="16144"/>
                </a:lnTo>
                <a:lnTo>
                  <a:pt x="9305" y="15221"/>
                </a:lnTo>
                <a:lnTo>
                  <a:pt x="10593" y="15221"/>
                </a:lnTo>
                <a:lnTo>
                  <a:pt x="10593" y="9129"/>
                </a:lnTo>
                <a:lnTo>
                  <a:pt x="9305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7:19:04Z</dcterms:created>
  <dc:creator>PritchaJ</dc:creator>
  <dc:description/>
  <dc:language>en-US</dc:language>
  <cp:lastModifiedBy>PritchaJ</cp:lastModifiedBy>
  <dcterms:modified xsi:type="dcterms:W3CDTF">2011-05-24T17:20:11Z</dcterms:modified>
  <cp:revision>1</cp:revision>
  <dc:subject/>
  <dc:title>Slide 1</dc:title>
</cp:coreProperties>
</file>